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D87-DCE4-4FBF-A063-1B2FD067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12A-E1CA-448B-AC9B-37B160EE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26F9-31D4-4B8A-BC65-F3B78340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A19-B51D-4A03-B701-46AE95B6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8285-9A08-4D79-B098-4729F2F0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E8D-A491-4E41-BAB2-9D24A866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DFD-92D8-4F83-BAE0-7964B5A7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DD7-C61E-4AA1-88C3-100C9CD6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AD3-6E1C-46ED-B543-4041CE58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D2F3-3C4C-4F80-B021-E4D7BE89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9EB-B2C9-4BE4-8011-E0E3B051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FD7-1B21-4747-A5E2-F563940A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B594-263B-4575-9C9F-CA6BF8534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3520"/>
            <a:ext cx="685800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cc00"/>
                </a:solidFill>
                <a:latin typeface="Arial Unicode MS"/>
              </a:rPr>
              <a:t>Always On The Go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 Unicode MS"/>
              </a:rPr>
              <a:t>FUZE Vitalize Will Keep You That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731520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76920" y="4952880"/>
            <a:ext cx="1981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Beyonce drinks a 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</a:rPr>
              <a:t>FUZE Vitalize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 before every show to keep her act fresh. Drink Vitalize to keep you going  through the day, no matter how small your task 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5:05:56Z</dcterms:created>
  <dc:creator>WPS</dc:creator>
  <dc:description/>
  <dc:language>en-US</dc:language>
  <cp:lastModifiedBy>WPS</cp:lastModifiedBy>
  <dcterms:modified xsi:type="dcterms:W3CDTF">2008-06-04T14:43:10Z</dcterms:modified>
  <cp:revision>4</cp:revision>
  <dc:subject/>
  <dc:title>Slide 1</dc:title>
</cp:coreProperties>
</file>